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1395-C581-4F6E-B34D-D5DD0232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CE86-D285-4C4C-922D-8DCC64EC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A345-FDE2-4E6D-93AF-20D2F7DB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39AC-844C-4558-A167-53507863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F2F7-5804-4C8B-9250-773DA7C6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A2C0-6203-4F10-91FA-253A9E7E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6DFF-8162-4BF3-8603-E49EED50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5E27-D37A-4C53-B997-506A9AEE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49BF-208D-44F7-AF67-C9F8CDF9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9890-C88D-4CE5-BE6E-B35CF52F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D28B-AEB3-4ACC-9B44-ACA85ABF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4C99-B463-40B0-B415-EABADA6F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69BD-40C2-45E3-97D0-7E4CAF6AAAD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amos a normalizar una tabl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7"/>
          <p:cNvGrpSpPr/>
          <p:nvPr/>
        </p:nvGrpSpPr>
        <p:grpSpPr>
          <a:xfrm>
            <a:off x="8207280" y="6497640"/>
            <a:ext cx="936720" cy="360360"/>
            <a:chOff x="8207280" y="6497640"/>
            <a:chExt cx="936720" cy="360360"/>
          </a:xfrm>
        </p:grpSpPr>
        <p:sp>
          <p:nvSpPr>
            <p:cNvPr id="43" name="AutoShape 8">
              <a:hlinkClick r:id="" action="ppaction://hlinkshowjump?jump=nextslide"/>
            </p:cNvPr>
            <p:cNvSpPr/>
            <p:nvPr/>
          </p:nvSpPr>
          <p:spPr>
            <a:xfrm>
              <a:off x="8207280" y="6497640"/>
              <a:ext cx="289080" cy="360360"/>
            </a:xfrm>
            <a:custGeom>
              <a:avLst/>
              <a:gdLst>
                <a:gd name="textAreaLeft" fmla="*/ 18720 w 289080"/>
                <a:gd name="textAreaRight" fmla="*/ 270360 w 289080"/>
                <a:gd name="textAreaTop" fmla="*/ 18720 h 360360"/>
                <a:gd name="textAreaBottom" fmla="*/ 341640 h 360360"/>
              </a:gdLst>
              <a:ahLst/>
              <a:rect l="textAreaLeft" t="textAreaTop" r="textAreaRight" b="textAreaBottom"/>
              <a:pathLst>
                <a:path w="21600" h="26919">
                  <a:moveTo>
                    <a:pt x="0" y="0"/>
                  </a:moveTo>
                  <a:lnTo>
                    <a:pt x="21600" y="0"/>
                  </a:lnTo>
                  <a:lnTo>
                    <a:pt x="21600" y="26919"/>
                  </a:lnTo>
                  <a:lnTo>
                    <a:pt x="0" y="26919"/>
                  </a:lnTo>
                  <a:close/>
                </a:path>
                <a:path fill="lightenLess" w="21600" h="26919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6919">
                  <a:moveTo>
                    <a:pt x="21600" y="0"/>
                  </a:moveTo>
                  <a:lnTo>
                    <a:pt x="21600" y="26919"/>
                  </a:lnTo>
                  <a:lnTo>
                    <a:pt x="20200" y="25519"/>
                  </a:lnTo>
                  <a:lnTo>
                    <a:pt x="20200" y="1400"/>
                  </a:lnTo>
                  <a:close/>
                </a:path>
                <a:path fill="darkenLess" w="21600" h="26919">
                  <a:moveTo>
                    <a:pt x="21600" y="26919"/>
                  </a:moveTo>
                  <a:lnTo>
                    <a:pt x="0" y="26919"/>
                  </a:lnTo>
                  <a:lnTo>
                    <a:pt x="1400" y="25519"/>
                  </a:lnTo>
                  <a:lnTo>
                    <a:pt x="20200" y="25519"/>
                  </a:lnTo>
                  <a:close/>
                </a:path>
                <a:path fill="lighten" w="21600" h="26919">
                  <a:moveTo>
                    <a:pt x="0" y="26919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519"/>
                  </a:lnTo>
                  <a:close/>
                </a:path>
                <a:path fill="darken" w="21600" h="26919">
                  <a:moveTo>
                    <a:pt x="3794" y="6453"/>
                  </a:moveTo>
                  <a:lnTo>
                    <a:pt x="17806" y="13460"/>
                  </a:lnTo>
                  <a:lnTo>
                    <a:pt x="3794" y="2046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9">
              <a:hlinkClick r:id="" action="ppaction://hlinkshowjump?jump=endshow"/>
            </p:cNvPr>
            <p:cNvSpPr/>
            <p:nvPr/>
          </p:nvSpPr>
          <p:spPr>
            <a:xfrm>
              <a:off x="8496360" y="6497640"/>
              <a:ext cx="647640" cy="360360"/>
            </a:xfrm>
            <a:custGeom>
              <a:avLst/>
              <a:gdLst>
                <a:gd name="textAreaLeft" fmla="*/ 23040 w 647640"/>
                <a:gd name="textAreaRight" fmla="*/ 624600 w 64764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8802" h="21600">
                  <a:moveTo>
                    <a:pt x="0" y="0"/>
                  </a:moveTo>
                  <a:lnTo>
                    <a:pt x="38802" y="0"/>
                  </a:lnTo>
                  <a:lnTo>
                    <a:pt x="38802" y="21600"/>
                  </a:lnTo>
                  <a:lnTo>
                    <a:pt x="0" y="21600"/>
                  </a:lnTo>
                  <a:close/>
                </a:path>
                <a:path fill="lightenLess" w="38802" h="21600">
                  <a:moveTo>
                    <a:pt x="0" y="0"/>
                  </a:moveTo>
                  <a:lnTo>
                    <a:pt x="38802" y="0"/>
                  </a:lnTo>
                  <a:lnTo>
                    <a:pt x="37402" y="1400"/>
                  </a:lnTo>
                  <a:lnTo>
                    <a:pt x="1400" y="1400"/>
                  </a:lnTo>
                  <a:close/>
                </a:path>
                <a:path fill="darken" w="38802" h="21600">
                  <a:moveTo>
                    <a:pt x="38802" y="0"/>
                  </a:moveTo>
                  <a:lnTo>
                    <a:pt x="38802" y="21600"/>
                  </a:lnTo>
                  <a:lnTo>
                    <a:pt x="37402" y="20200"/>
                  </a:lnTo>
                  <a:lnTo>
                    <a:pt x="37402" y="1400"/>
                  </a:lnTo>
                  <a:close/>
                </a:path>
                <a:path fill="darkenLess" w="38802" h="21600">
                  <a:moveTo>
                    <a:pt x="3880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402" y="20200"/>
                  </a:lnTo>
                  <a:close/>
                </a:path>
                <a:path fill="lighten" w="3880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1187280" y="3633840"/>
            <a:ext cx="6480360" cy="33732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bservamos que tenemos las siguientes dependencias funciona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7920000" y="6497640"/>
            <a:ext cx="1224000" cy="360360"/>
            <a:chOff x="7920000" y="6497640"/>
            <a:chExt cx="1224000" cy="360360"/>
          </a:xfrm>
        </p:grpSpPr>
        <p:sp>
          <p:nvSpPr>
            <p:cNvPr id="47" name="AutoShape 8">
              <a:hlinkClick r:id="" action="ppaction://hlinkshowjump?jump=previousslide"/>
            </p:cNvPr>
            <p:cNvSpPr/>
            <p:nvPr/>
          </p:nvSpPr>
          <p:spPr>
            <a:xfrm>
              <a:off x="7920000" y="6497640"/>
              <a:ext cx="287280" cy="360360"/>
            </a:xfrm>
            <a:custGeom>
              <a:avLst/>
              <a:gdLst>
                <a:gd name="textAreaLeft" fmla="*/ 18360 w 287280"/>
                <a:gd name="textAreaRight" fmla="*/ 268920 w 287280"/>
                <a:gd name="textAreaTop" fmla="*/ 18360 h 360360"/>
                <a:gd name="textAreaBottom" fmla="*/ 342000 h 360360"/>
              </a:gdLst>
              <a:ahLst/>
              <a:rect l="textAreaLeft" t="textAreaTop" r="textAreaRight" b="textAreaBottom"/>
              <a:pathLst>
                <a:path w="21600" h="27088">
                  <a:moveTo>
                    <a:pt x="0" y="0"/>
                  </a:moveTo>
                  <a:lnTo>
                    <a:pt x="21600" y="0"/>
                  </a:lnTo>
                  <a:lnTo>
                    <a:pt x="21600" y="27088"/>
                  </a:lnTo>
                  <a:lnTo>
                    <a:pt x="0" y="27088"/>
                  </a:lnTo>
                  <a:close/>
                </a:path>
                <a:path fill="lightenLess" w="21600" h="2708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7088">
                  <a:moveTo>
                    <a:pt x="21600" y="0"/>
                  </a:moveTo>
                  <a:lnTo>
                    <a:pt x="21600" y="27088"/>
                  </a:lnTo>
                  <a:lnTo>
                    <a:pt x="20200" y="25688"/>
                  </a:lnTo>
                  <a:lnTo>
                    <a:pt x="20200" y="1400"/>
                  </a:lnTo>
                  <a:close/>
                </a:path>
                <a:path fill="darkenLess" w="21600" h="27088">
                  <a:moveTo>
                    <a:pt x="21600" y="27088"/>
                  </a:moveTo>
                  <a:lnTo>
                    <a:pt x="0" y="27088"/>
                  </a:lnTo>
                  <a:lnTo>
                    <a:pt x="1400" y="25688"/>
                  </a:lnTo>
                  <a:lnTo>
                    <a:pt x="20200" y="25688"/>
                  </a:lnTo>
                  <a:close/>
                </a:path>
                <a:path fill="lighten" w="21600" h="27088">
                  <a:moveTo>
                    <a:pt x="0" y="2708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688"/>
                  </a:lnTo>
                  <a:close/>
                </a:path>
                <a:path fill="darken" w="21600" h="27088">
                  <a:moveTo>
                    <a:pt x="3794" y="13544"/>
                  </a:moveTo>
                  <a:lnTo>
                    <a:pt x="17806" y="6537"/>
                  </a:lnTo>
                  <a:lnTo>
                    <a:pt x="17806" y="2055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9">
              <a:hlinkClick r:id="" action="ppaction://hlinkshowjump?jump=nextslide"/>
            </p:cNvPr>
            <p:cNvSpPr/>
            <p:nvPr/>
          </p:nvSpPr>
          <p:spPr>
            <a:xfrm>
              <a:off x="8207280" y="6497640"/>
              <a:ext cx="289080" cy="360360"/>
            </a:xfrm>
            <a:custGeom>
              <a:avLst/>
              <a:gdLst>
                <a:gd name="textAreaLeft" fmla="*/ 18720 w 289080"/>
                <a:gd name="textAreaRight" fmla="*/ 270360 w 289080"/>
                <a:gd name="textAreaTop" fmla="*/ 18720 h 360360"/>
                <a:gd name="textAreaBottom" fmla="*/ 341640 h 360360"/>
              </a:gdLst>
              <a:ahLst/>
              <a:rect l="textAreaLeft" t="textAreaTop" r="textAreaRight" b="textAreaBottom"/>
              <a:pathLst>
                <a:path w="21600" h="26919">
                  <a:moveTo>
                    <a:pt x="0" y="0"/>
                  </a:moveTo>
                  <a:lnTo>
                    <a:pt x="21600" y="0"/>
                  </a:lnTo>
                  <a:lnTo>
                    <a:pt x="21600" y="26919"/>
                  </a:lnTo>
                  <a:lnTo>
                    <a:pt x="0" y="26919"/>
                  </a:lnTo>
                  <a:close/>
                </a:path>
                <a:path fill="lightenLess" w="21600" h="26919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6919">
                  <a:moveTo>
                    <a:pt x="21600" y="0"/>
                  </a:moveTo>
                  <a:lnTo>
                    <a:pt x="21600" y="26919"/>
                  </a:lnTo>
                  <a:lnTo>
                    <a:pt x="20200" y="25519"/>
                  </a:lnTo>
                  <a:lnTo>
                    <a:pt x="20200" y="1400"/>
                  </a:lnTo>
                  <a:close/>
                </a:path>
                <a:path fill="darkenLess" w="21600" h="26919">
                  <a:moveTo>
                    <a:pt x="21600" y="26919"/>
                  </a:moveTo>
                  <a:lnTo>
                    <a:pt x="0" y="26919"/>
                  </a:lnTo>
                  <a:lnTo>
                    <a:pt x="1400" y="25519"/>
                  </a:lnTo>
                  <a:lnTo>
                    <a:pt x="20200" y="25519"/>
                  </a:lnTo>
                  <a:close/>
                </a:path>
                <a:path fill="lighten" w="21600" h="26919">
                  <a:moveTo>
                    <a:pt x="0" y="26919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519"/>
                  </a:lnTo>
                  <a:close/>
                </a:path>
                <a:path fill="darken" w="21600" h="26919">
                  <a:moveTo>
                    <a:pt x="3794" y="6453"/>
                  </a:moveTo>
                  <a:lnTo>
                    <a:pt x="17806" y="13460"/>
                  </a:lnTo>
                  <a:lnTo>
                    <a:pt x="3794" y="2046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10">
              <a:hlinkClick r:id="" action="ppaction://hlinkshowjump?jump=endshow"/>
            </p:cNvPr>
            <p:cNvSpPr/>
            <p:nvPr/>
          </p:nvSpPr>
          <p:spPr>
            <a:xfrm>
              <a:off x="8496360" y="6497640"/>
              <a:ext cx="647640" cy="360360"/>
            </a:xfrm>
            <a:custGeom>
              <a:avLst/>
              <a:gdLst>
                <a:gd name="textAreaLeft" fmla="*/ 23040 w 647640"/>
                <a:gd name="textAreaRight" fmla="*/ 624600 w 64764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8802" h="21600">
                  <a:moveTo>
                    <a:pt x="0" y="0"/>
                  </a:moveTo>
                  <a:lnTo>
                    <a:pt x="38802" y="0"/>
                  </a:lnTo>
                  <a:lnTo>
                    <a:pt x="38802" y="21600"/>
                  </a:lnTo>
                  <a:lnTo>
                    <a:pt x="0" y="21600"/>
                  </a:lnTo>
                  <a:close/>
                </a:path>
                <a:path fill="lightenLess" w="38802" h="21600">
                  <a:moveTo>
                    <a:pt x="0" y="0"/>
                  </a:moveTo>
                  <a:lnTo>
                    <a:pt x="38802" y="0"/>
                  </a:lnTo>
                  <a:lnTo>
                    <a:pt x="37402" y="1400"/>
                  </a:lnTo>
                  <a:lnTo>
                    <a:pt x="1400" y="1400"/>
                  </a:lnTo>
                  <a:close/>
                </a:path>
                <a:path fill="darken" w="38802" h="21600">
                  <a:moveTo>
                    <a:pt x="38802" y="0"/>
                  </a:moveTo>
                  <a:lnTo>
                    <a:pt x="38802" y="21600"/>
                  </a:lnTo>
                  <a:lnTo>
                    <a:pt x="37402" y="20200"/>
                  </a:lnTo>
                  <a:lnTo>
                    <a:pt x="37402" y="1400"/>
                  </a:lnTo>
                  <a:close/>
                </a:path>
                <a:path fill="darkenLess" w="38802" h="21600">
                  <a:moveTo>
                    <a:pt x="3880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402" y="20200"/>
                  </a:lnTo>
                  <a:close/>
                </a:path>
                <a:path fill="lighten" w="3880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 Box 13"/>
          <p:cNvSpPr/>
          <p:nvPr/>
        </p:nvSpPr>
        <p:spPr>
          <a:xfrm>
            <a:off x="1763640" y="333360"/>
            <a:ext cx="5257800" cy="33732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ada la tabla de nuestro ejemplo, ¿está normaliza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55640" y="907920"/>
          <a:ext cx="7556400" cy="1873440"/>
        </p:xfrm>
        <a:graphic>
          <a:graphicData uri="http://schemas.openxmlformats.org/drawingml/2006/table">
            <a:tbl>
              <a:tblPr/>
              <a:tblGrid>
                <a:gridCol w="944640"/>
                <a:gridCol w="944640"/>
                <a:gridCol w="944280"/>
                <a:gridCol w="944640"/>
                <a:gridCol w="944640"/>
                <a:gridCol w="944640"/>
                <a:gridCol w="1173240"/>
                <a:gridCol w="715680"/>
              </a:tblGrid>
              <a:tr h="28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ELLI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_POS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VI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IGN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E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45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l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o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n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onso Bonil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45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l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o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n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rciso Jáim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67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guel 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ér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órd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rciso Jáim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67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guel 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ér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órd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bastián Lóp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5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rígu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7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mer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bastián Lóp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5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eg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rígu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7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mer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onso Bonil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2" name="Text Box 404"/>
          <p:cNvSpPr/>
          <p:nvPr/>
        </p:nvSpPr>
        <p:spPr>
          <a:xfrm>
            <a:off x="2195640" y="4365720"/>
            <a:ext cx="4176720" cy="106740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NI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NOMBRE, APELLIDO, C_POS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_POSTAL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PROVI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NI, ASIGNAT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N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SIGNAT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PROFE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05"/>
          <p:cNvSpPr/>
          <p:nvPr/>
        </p:nvSpPr>
        <p:spPr>
          <a:xfrm>
            <a:off x="1546200" y="2924280"/>
            <a:ext cx="5689800" cy="58068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 evidente que todos los atributos son atómicos, luego la tabla está en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F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xit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205080" y="333360"/>
            <a:ext cx="2303640" cy="45972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Está en 2FN?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7920000" y="6497640"/>
            <a:ext cx="1224000" cy="360360"/>
            <a:chOff x="7920000" y="6497640"/>
            <a:chExt cx="1224000" cy="360360"/>
          </a:xfrm>
        </p:grpSpPr>
        <p:sp>
          <p:nvSpPr>
            <p:cNvPr id="56" name="AutoShape 5">
              <a:hlinkClick r:id="" action="ppaction://hlinkshowjump?jump=previousslide"/>
            </p:cNvPr>
            <p:cNvSpPr/>
            <p:nvPr/>
          </p:nvSpPr>
          <p:spPr>
            <a:xfrm>
              <a:off x="7920000" y="6497640"/>
              <a:ext cx="287280" cy="360360"/>
            </a:xfrm>
            <a:custGeom>
              <a:avLst/>
              <a:gdLst>
                <a:gd name="textAreaLeft" fmla="*/ 18360 w 287280"/>
                <a:gd name="textAreaRight" fmla="*/ 268920 w 287280"/>
                <a:gd name="textAreaTop" fmla="*/ 18360 h 360360"/>
                <a:gd name="textAreaBottom" fmla="*/ 342000 h 360360"/>
              </a:gdLst>
              <a:ahLst/>
              <a:rect l="textAreaLeft" t="textAreaTop" r="textAreaRight" b="textAreaBottom"/>
              <a:pathLst>
                <a:path w="21600" h="27088">
                  <a:moveTo>
                    <a:pt x="0" y="0"/>
                  </a:moveTo>
                  <a:lnTo>
                    <a:pt x="21600" y="0"/>
                  </a:lnTo>
                  <a:lnTo>
                    <a:pt x="21600" y="27088"/>
                  </a:lnTo>
                  <a:lnTo>
                    <a:pt x="0" y="27088"/>
                  </a:lnTo>
                  <a:close/>
                </a:path>
                <a:path fill="lightenLess" w="21600" h="2708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7088">
                  <a:moveTo>
                    <a:pt x="21600" y="0"/>
                  </a:moveTo>
                  <a:lnTo>
                    <a:pt x="21600" y="27088"/>
                  </a:lnTo>
                  <a:lnTo>
                    <a:pt x="20200" y="25688"/>
                  </a:lnTo>
                  <a:lnTo>
                    <a:pt x="20200" y="1400"/>
                  </a:lnTo>
                  <a:close/>
                </a:path>
                <a:path fill="darkenLess" w="21600" h="27088">
                  <a:moveTo>
                    <a:pt x="21600" y="27088"/>
                  </a:moveTo>
                  <a:lnTo>
                    <a:pt x="0" y="27088"/>
                  </a:lnTo>
                  <a:lnTo>
                    <a:pt x="1400" y="25688"/>
                  </a:lnTo>
                  <a:lnTo>
                    <a:pt x="20200" y="25688"/>
                  </a:lnTo>
                  <a:close/>
                </a:path>
                <a:path fill="lighten" w="21600" h="27088">
                  <a:moveTo>
                    <a:pt x="0" y="2708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688"/>
                  </a:lnTo>
                  <a:close/>
                </a:path>
                <a:path fill="darken" w="21600" h="27088">
                  <a:moveTo>
                    <a:pt x="3794" y="13544"/>
                  </a:moveTo>
                  <a:lnTo>
                    <a:pt x="17806" y="6537"/>
                  </a:lnTo>
                  <a:lnTo>
                    <a:pt x="17806" y="2055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6">
              <a:hlinkClick r:id="" action="ppaction://hlinkshowjump?jump=nextslide"/>
            </p:cNvPr>
            <p:cNvSpPr/>
            <p:nvPr/>
          </p:nvSpPr>
          <p:spPr>
            <a:xfrm>
              <a:off x="8207280" y="6497640"/>
              <a:ext cx="289080" cy="360360"/>
            </a:xfrm>
            <a:custGeom>
              <a:avLst/>
              <a:gdLst>
                <a:gd name="textAreaLeft" fmla="*/ 18720 w 289080"/>
                <a:gd name="textAreaRight" fmla="*/ 270360 w 289080"/>
                <a:gd name="textAreaTop" fmla="*/ 18720 h 360360"/>
                <a:gd name="textAreaBottom" fmla="*/ 341640 h 360360"/>
              </a:gdLst>
              <a:ahLst/>
              <a:rect l="textAreaLeft" t="textAreaTop" r="textAreaRight" b="textAreaBottom"/>
              <a:pathLst>
                <a:path w="21600" h="26919">
                  <a:moveTo>
                    <a:pt x="0" y="0"/>
                  </a:moveTo>
                  <a:lnTo>
                    <a:pt x="21600" y="0"/>
                  </a:lnTo>
                  <a:lnTo>
                    <a:pt x="21600" y="26919"/>
                  </a:lnTo>
                  <a:lnTo>
                    <a:pt x="0" y="26919"/>
                  </a:lnTo>
                  <a:close/>
                </a:path>
                <a:path fill="lightenLess" w="21600" h="26919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6919">
                  <a:moveTo>
                    <a:pt x="21600" y="0"/>
                  </a:moveTo>
                  <a:lnTo>
                    <a:pt x="21600" y="26919"/>
                  </a:lnTo>
                  <a:lnTo>
                    <a:pt x="20200" y="25519"/>
                  </a:lnTo>
                  <a:lnTo>
                    <a:pt x="20200" y="1400"/>
                  </a:lnTo>
                  <a:close/>
                </a:path>
                <a:path fill="darkenLess" w="21600" h="26919">
                  <a:moveTo>
                    <a:pt x="21600" y="26919"/>
                  </a:moveTo>
                  <a:lnTo>
                    <a:pt x="0" y="26919"/>
                  </a:lnTo>
                  <a:lnTo>
                    <a:pt x="1400" y="25519"/>
                  </a:lnTo>
                  <a:lnTo>
                    <a:pt x="20200" y="25519"/>
                  </a:lnTo>
                  <a:close/>
                </a:path>
                <a:path fill="lighten" w="21600" h="26919">
                  <a:moveTo>
                    <a:pt x="0" y="26919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519"/>
                  </a:lnTo>
                  <a:close/>
                </a:path>
                <a:path fill="darken" w="21600" h="26919">
                  <a:moveTo>
                    <a:pt x="3794" y="6453"/>
                  </a:moveTo>
                  <a:lnTo>
                    <a:pt x="17806" y="13460"/>
                  </a:lnTo>
                  <a:lnTo>
                    <a:pt x="3794" y="2046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7">
              <a:hlinkClick r:id="" action="ppaction://hlinkshowjump?jump=endshow"/>
            </p:cNvPr>
            <p:cNvSpPr/>
            <p:nvPr/>
          </p:nvSpPr>
          <p:spPr>
            <a:xfrm>
              <a:off x="8496360" y="6497640"/>
              <a:ext cx="647640" cy="360360"/>
            </a:xfrm>
            <a:custGeom>
              <a:avLst/>
              <a:gdLst>
                <a:gd name="textAreaLeft" fmla="*/ 23040 w 647640"/>
                <a:gd name="textAreaRight" fmla="*/ 624600 w 64764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8802" h="21600">
                  <a:moveTo>
                    <a:pt x="0" y="0"/>
                  </a:moveTo>
                  <a:lnTo>
                    <a:pt x="38802" y="0"/>
                  </a:lnTo>
                  <a:lnTo>
                    <a:pt x="38802" y="21600"/>
                  </a:lnTo>
                  <a:lnTo>
                    <a:pt x="0" y="21600"/>
                  </a:lnTo>
                  <a:close/>
                </a:path>
                <a:path fill="lightenLess" w="38802" h="21600">
                  <a:moveTo>
                    <a:pt x="0" y="0"/>
                  </a:moveTo>
                  <a:lnTo>
                    <a:pt x="38802" y="0"/>
                  </a:lnTo>
                  <a:lnTo>
                    <a:pt x="37402" y="1400"/>
                  </a:lnTo>
                  <a:lnTo>
                    <a:pt x="1400" y="1400"/>
                  </a:lnTo>
                  <a:close/>
                </a:path>
                <a:path fill="darken" w="38802" h="21600">
                  <a:moveTo>
                    <a:pt x="38802" y="0"/>
                  </a:moveTo>
                  <a:lnTo>
                    <a:pt x="38802" y="21600"/>
                  </a:lnTo>
                  <a:lnTo>
                    <a:pt x="37402" y="20200"/>
                  </a:lnTo>
                  <a:lnTo>
                    <a:pt x="37402" y="1400"/>
                  </a:lnTo>
                  <a:close/>
                </a:path>
                <a:path fill="darkenLess" w="38802" h="21600">
                  <a:moveTo>
                    <a:pt x="3880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402" y="20200"/>
                  </a:lnTo>
                  <a:close/>
                </a:path>
                <a:path fill="lighten" w="3880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9" name=""/>
          <p:cNvGraphicFramePr/>
          <p:nvPr/>
        </p:nvGraphicFramePr>
        <p:xfrm>
          <a:off x="760320" y="1052640"/>
          <a:ext cx="7556760" cy="1873080"/>
        </p:xfrm>
        <a:graphic>
          <a:graphicData uri="http://schemas.openxmlformats.org/drawingml/2006/table">
            <a:tbl>
              <a:tblPr/>
              <a:tblGrid>
                <a:gridCol w="944640"/>
                <a:gridCol w="944640"/>
                <a:gridCol w="944640"/>
                <a:gridCol w="944280"/>
                <a:gridCol w="944640"/>
                <a:gridCol w="944640"/>
                <a:gridCol w="1173240"/>
                <a:gridCol w="716040"/>
              </a:tblGrid>
              <a:tr h="28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ELLI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_POS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VI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IGN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E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45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l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o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n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onso Bonil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45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l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o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n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rciso Jáim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67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guel 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ér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órd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rciso Jáim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67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guel 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ér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órd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bastián Lóp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5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rígu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7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mer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bastián Lóp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5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eg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rígu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7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mer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onso Bonil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8"/>
          <p:cNvSpPr/>
          <p:nvPr/>
        </p:nvSpPr>
        <p:spPr>
          <a:xfrm>
            <a:off x="5651640" y="333360"/>
            <a:ext cx="934920" cy="45972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!!!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0"/>
          <p:cNvSpPr/>
          <p:nvPr/>
        </p:nvSpPr>
        <p:spPr>
          <a:xfrm>
            <a:off x="2556000" y="1268280"/>
            <a:ext cx="4537080" cy="228852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componemos la tabla en otras en las que los atributos no clave dependan sólo de la clave principal, para ello tenemos en cuenta las dependencias funcionales anterior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00000" y="5300640"/>
          <a:ext cx="3778200" cy="1063800"/>
        </p:xfrm>
        <a:graphic>
          <a:graphicData uri="http://schemas.openxmlformats.org/drawingml/2006/table">
            <a:tbl>
              <a:tblPr/>
              <a:tblGrid>
                <a:gridCol w="944640"/>
                <a:gridCol w="944640"/>
                <a:gridCol w="944640"/>
                <a:gridCol w="944280"/>
              </a:tblGrid>
              <a:tr h="28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D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ELLI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_POS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45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l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o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67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guel 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ér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5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rígu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7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516720" y="3284640"/>
          <a:ext cx="1888920" cy="1063440"/>
        </p:xfrm>
        <a:graphic>
          <a:graphicData uri="http://schemas.openxmlformats.org/drawingml/2006/table">
            <a:tbl>
              <a:tblPr/>
              <a:tblGrid>
                <a:gridCol w="944640"/>
                <a:gridCol w="944280"/>
              </a:tblGrid>
              <a:tr h="28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_POS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VI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n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órd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7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mer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84360" y="3141720"/>
          <a:ext cx="2604960" cy="1873080"/>
        </p:xfrm>
        <a:graphic>
          <a:graphicData uri="http://schemas.openxmlformats.org/drawingml/2006/table">
            <a:tbl>
              <a:tblPr/>
              <a:tblGrid>
                <a:gridCol w="944280"/>
                <a:gridCol w="944640"/>
                <a:gridCol w="716040"/>
              </a:tblGrid>
              <a:tr h="28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D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SIGN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45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45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67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67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5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5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435640" y="4653000"/>
          <a:ext cx="2117520" cy="1873080"/>
        </p:xfrm>
        <a:graphic>
          <a:graphicData uri="http://schemas.openxmlformats.org/drawingml/2006/table">
            <a:tbl>
              <a:tblPr/>
              <a:tblGrid>
                <a:gridCol w="944640"/>
                <a:gridCol w="1172880"/>
              </a:tblGrid>
              <a:tr h="28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SIGN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E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onso Bonil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rciso Jáim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rciso Jáim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bastián Lóp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bastián Lóp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onso Bonil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6" name="Line 434"/>
          <p:cNvSpPr/>
          <p:nvPr/>
        </p:nvSpPr>
        <p:spPr>
          <a:xfrm flipH="1">
            <a:off x="3132000" y="1628640"/>
            <a:ext cx="1440000" cy="367200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35"/>
          <p:cNvSpPr/>
          <p:nvPr/>
        </p:nvSpPr>
        <p:spPr>
          <a:xfrm>
            <a:off x="4572000" y="1628640"/>
            <a:ext cx="2521080" cy="15843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36"/>
          <p:cNvSpPr/>
          <p:nvPr/>
        </p:nvSpPr>
        <p:spPr>
          <a:xfrm>
            <a:off x="4572000" y="1628640"/>
            <a:ext cx="1368360" cy="295272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 flipH="1">
            <a:off x="2124000" y="1628640"/>
            <a:ext cx="2448000" cy="151308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3"/>
          <p:cNvGrpSpPr/>
          <p:nvPr/>
        </p:nvGrpSpPr>
        <p:grpSpPr>
          <a:xfrm>
            <a:off x="7920000" y="6497640"/>
            <a:ext cx="1224000" cy="360360"/>
            <a:chOff x="7920000" y="6497640"/>
            <a:chExt cx="1224000" cy="360360"/>
          </a:xfrm>
        </p:grpSpPr>
        <p:sp>
          <p:nvSpPr>
            <p:cNvPr id="71" name="AutoShape 4">
              <a:hlinkClick r:id="" action="ppaction://hlinkshowjump?jump=previousslide"/>
            </p:cNvPr>
            <p:cNvSpPr/>
            <p:nvPr/>
          </p:nvSpPr>
          <p:spPr>
            <a:xfrm>
              <a:off x="7920000" y="6497640"/>
              <a:ext cx="287280" cy="360360"/>
            </a:xfrm>
            <a:custGeom>
              <a:avLst/>
              <a:gdLst>
                <a:gd name="textAreaLeft" fmla="*/ 18360 w 287280"/>
                <a:gd name="textAreaRight" fmla="*/ 268920 w 287280"/>
                <a:gd name="textAreaTop" fmla="*/ 18360 h 360360"/>
                <a:gd name="textAreaBottom" fmla="*/ 342000 h 360360"/>
              </a:gdLst>
              <a:ahLst/>
              <a:rect l="textAreaLeft" t="textAreaTop" r="textAreaRight" b="textAreaBottom"/>
              <a:pathLst>
                <a:path w="21600" h="27088">
                  <a:moveTo>
                    <a:pt x="0" y="0"/>
                  </a:moveTo>
                  <a:lnTo>
                    <a:pt x="21600" y="0"/>
                  </a:lnTo>
                  <a:lnTo>
                    <a:pt x="21600" y="27088"/>
                  </a:lnTo>
                  <a:lnTo>
                    <a:pt x="0" y="27088"/>
                  </a:lnTo>
                  <a:close/>
                </a:path>
                <a:path fill="lightenLess" w="21600" h="2708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7088">
                  <a:moveTo>
                    <a:pt x="21600" y="0"/>
                  </a:moveTo>
                  <a:lnTo>
                    <a:pt x="21600" y="27088"/>
                  </a:lnTo>
                  <a:lnTo>
                    <a:pt x="20200" y="25688"/>
                  </a:lnTo>
                  <a:lnTo>
                    <a:pt x="20200" y="1400"/>
                  </a:lnTo>
                  <a:close/>
                </a:path>
                <a:path fill="darkenLess" w="21600" h="27088">
                  <a:moveTo>
                    <a:pt x="21600" y="27088"/>
                  </a:moveTo>
                  <a:lnTo>
                    <a:pt x="0" y="27088"/>
                  </a:lnTo>
                  <a:lnTo>
                    <a:pt x="1400" y="25688"/>
                  </a:lnTo>
                  <a:lnTo>
                    <a:pt x="20200" y="25688"/>
                  </a:lnTo>
                  <a:close/>
                </a:path>
                <a:path fill="lighten" w="21600" h="27088">
                  <a:moveTo>
                    <a:pt x="0" y="2708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688"/>
                  </a:lnTo>
                  <a:close/>
                </a:path>
                <a:path fill="darken" w="21600" h="27088">
                  <a:moveTo>
                    <a:pt x="3794" y="13544"/>
                  </a:moveTo>
                  <a:lnTo>
                    <a:pt x="17806" y="6537"/>
                  </a:lnTo>
                  <a:lnTo>
                    <a:pt x="17806" y="2055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5">
              <a:hlinkClick r:id="" action="ppaction://hlinkshowjump?jump=nextslide"/>
            </p:cNvPr>
            <p:cNvSpPr/>
            <p:nvPr/>
          </p:nvSpPr>
          <p:spPr>
            <a:xfrm>
              <a:off x="8207280" y="6497640"/>
              <a:ext cx="289080" cy="360360"/>
            </a:xfrm>
            <a:custGeom>
              <a:avLst/>
              <a:gdLst>
                <a:gd name="textAreaLeft" fmla="*/ 18720 w 289080"/>
                <a:gd name="textAreaRight" fmla="*/ 270360 w 289080"/>
                <a:gd name="textAreaTop" fmla="*/ 18720 h 360360"/>
                <a:gd name="textAreaBottom" fmla="*/ 341640 h 360360"/>
              </a:gdLst>
              <a:ahLst/>
              <a:rect l="textAreaLeft" t="textAreaTop" r="textAreaRight" b="textAreaBottom"/>
              <a:pathLst>
                <a:path w="21600" h="26919">
                  <a:moveTo>
                    <a:pt x="0" y="0"/>
                  </a:moveTo>
                  <a:lnTo>
                    <a:pt x="21600" y="0"/>
                  </a:lnTo>
                  <a:lnTo>
                    <a:pt x="21600" y="26919"/>
                  </a:lnTo>
                  <a:lnTo>
                    <a:pt x="0" y="26919"/>
                  </a:lnTo>
                  <a:close/>
                </a:path>
                <a:path fill="lightenLess" w="21600" h="26919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6919">
                  <a:moveTo>
                    <a:pt x="21600" y="0"/>
                  </a:moveTo>
                  <a:lnTo>
                    <a:pt x="21600" y="26919"/>
                  </a:lnTo>
                  <a:lnTo>
                    <a:pt x="20200" y="25519"/>
                  </a:lnTo>
                  <a:lnTo>
                    <a:pt x="20200" y="1400"/>
                  </a:lnTo>
                  <a:close/>
                </a:path>
                <a:path fill="darkenLess" w="21600" h="26919">
                  <a:moveTo>
                    <a:pt x="21600" y="26919"/>
                  </a:moveTo>
                  <a:lnTo>
                    <a:pt x="0" y="26919"/>
                  </a:lnTo>
                  <a:lnTo>
                    <a:pt x="1400" y="25519"/>
                  </a:lnTo>
                  <a:lnTo>
                    <a:pt x="20200" y="25519"/>
                  </a:lnTo>
                  <a:close/>
                </a:path>
                <a:path fill="lighten" w="21600" h="26919">
                  <a:moveTo>
                    <a:pt x="0" y="26919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519"/>
                  </a:lnTo>
                  <a:close/>
                </a:path>
                <a:path fill="darken" w="21600" h="26919">
                  <a:moveTo>
                    <a:pt x="3794" y="6453"/>
                  </a:moveTo>
                  <a:lnTo>
                    <a:pt x="17806" y="13460"/>
                  </a:lnTo>
                  <a:lnTo>
                    <a:pt x="3794" y="2046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6">
              <a:hlinkClick r:id="" action="ppaction://hlinkshowjump?jump=endshow"/>
            </p:cNvPr>
            <p:cNvSpPr/>
            <p:nvPr/>
          </p:nvSpPr>
          <p:spPr>
            <a:xfrm>
              <a:off x="8496360" y="6497640"/>
              <a:ext cx="647640" cy="360360"/>
            </a:xfrm>
            <a:custGeom>
              <a:avLst/>
              <a:gdLst>
                <a:gd name="textAreaLeft" fmla="*/ 23040 w 647640"/>
                <a:gd name="textAreaRight" fmla="*/ 624600 w 64764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8802" h="21600">
                  <a:moveTo>
                    <a:pt x="0" y="0"/>
                  </a:moveTo>
                  <a:lnTo>
                    <a:pt x="38802" y="0"/>
                  </a:lnTo>
                  <a:lnTo>
                    <a:pt x="38802" y="21600"/>
                  </a:lnTo>
                  <a:lnTo>
                    <a:pt x="0" y="21600"/>
                  </a:lnTo>
                  <a:close/>
                </a:path>
                <a:path fill="lightenLess" w="38802" h="21600">
                  <a:moveTo>
                    <a:pt x="0" y="0"/>
                  </a:moveTo>
                  <a:lnTo>
                    <a:pt x="38802" y="0"/>
                  </a:lnTo>
                  <a:lnTo>
                    <a:pt x="37402" y="1400"/>
                  </a:lnTo>
                  <a:lnTo>
                    <a:pt x="1400" y="1400"/>
                  </a:lnTo>
                  <a:close/>
                </a:path>
                <a:path fill="darken" w="38802" h="21600">
                  <a:moveTo>
                    <a:pt x="38802" y="0"/>
                  </a:moveTo>
                  <a:lnTo>
                    <a:pt x="38802" y="21600"/>
                  </a:lnTo>
                  <a:lnTo>
                    <a:pt x="37402" y="20200"/>
                  </a:lnTo>
                  <a:lnTo>
                    <a:pt x="37402" y="1400"/>
                  </a:lnTo>
                  <a:close/>
                </a:path>
                <a:path fill="darkenLess" w="38802" h="21600">
                  <a:moveTo>
                    <a:pt x="3880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402" y="20200"/>
                  </a:lnTo>
                  <a:close/>
                </a:path>
                <a:path fill="lighten" w="3880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4" name=""/>
          <p:cNvGraphicFramePr/>
          <p:nvPr/>
        </p:nvGraphicFramePr>
        <p:xfrm>
          <a:off x="1116000" y="4365720"/>
          <a:ext cx="3778200" cy="1063440"/>
        </p:xfrm>
        <a:graphic>
          <a:graphicData uri="http://schemas.openxmlformats.org/drawingml/2006/table">
            <a:tbl>
              <a:tblPr/>
              <a:tblGrid>
                <a:gridCol w="944640"/>
                <a:gridCol w="944640"/>
                <a:gridCol w="944280"/>
                <a:gridCol w="944640"/>
              </a:tblGrid>
              <a:tr h="28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D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ELLI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_POS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45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l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o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67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guel 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ér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5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rígu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7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6227640" y="1773360"/>
          <a:ext cx="1889280" cy="1063440"/>
        </p:xfrm>
        <a:graphic>
          <a:graphicData uri="http://schemas.openxmlformats.org/drawingml/2006/table">
            <a:tbl>
              <a:tblPr/>
              <a:tblGrid>
                <a:gridCol w="944640"/>
                <a:gridCol w="944640"/>
              </a:tblGrid>
              <a:tr h="28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_POS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VI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n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órd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7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mer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68360" y="1700280"/>
          <a:ext cx="2604960" cy="1873080"/>
        </p:xfrm>
        <a:graphic>
          <a:graphicData uri="http://schemas.openxmlformats.org/drawingml/2006/table">
            <a:tbl>
              <a:tblPr/>
              <a:tblGrid>
                <a:gridCol w="944640"/>
                <a:gridCol w="944280"/>
                <a:gridCol w="716040"/>
              </a:tblGrid>
              <a:tr h="28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D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SIGN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45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45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67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67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5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5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6084720" y="3357720"/>
          <a:ext cx="2117880" cy="1873080"/>
        </p:xfrm>
        <a:graphic>
          <a:graphicData uri="http://schemas.openxmlformats.org/drawingml/2006/table">
            <a:tbl>
              <a:tblPr/>
              <a:tblGrid>
                <a:gridCol w="944640"/>
                <a:gridCol w="1173240"/>
              </a:tblGrid>
              <a:tr h="28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SIGN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E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onso Bonil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rciso Jáim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rciso Jáim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bastián Lóp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bastián Lóp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onso Bonil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78" name="Text Box 192"/>
          <p:cNvSpPr/>
          <p:nvPr/>
        </p:nvSpPr>
        <p:spPr>
          <a:xfrm>
            <a:off x="2484360" y="333360"/>
            <a:ext cx="4248360" cy="82548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Están las nuevas tablas en 2FN?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3"/>
          <p:cNvSpPr/>
          <p:nvPr/>
        </p:nvSpPr>
        <p:spPr>
          <a:xfrm>
            <a:off x="3421080" y="2865600"/>
            <a:ext cx="2303280" cy="45972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í está en 2F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4"/>
          <p:cNvSpPr/>
          <p:nvPr/>
        </p:nvSpPr>
        <p:spPr>
          <a:xfrm>
            <a:off x="2411280" y="1916280"/>
            <a:ext cx="4248360" cy="119124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Dependen todos los atributos no clave de la clave principal?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95"/>
          <p:cNvSpPr/>
          <p:nvPr/>
        </p:nvSpPr>
        <p:spPr>
          <a:xfrm>
            <a:off x="2340000" y="3141720"/>
            <a:ext cx="4248000" cy="82548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das las tablas están en 2FN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7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7920000" y="6497640"/>
            <a:ext cx="1224000" cy="360360"/>
            <a:chOff x="7920000" y="6497640"/>
            <a:chExt cx="1224000" cy="360360"/>
          </a:xfrm>
        </p:grpSpPr>
        <p:sp>
          <p:nvSpPr>
            <p:cNvPr id="83" name="AutoShape 3">
              <a:hlinkClick r:id="" action="ppaction://hlinkshowjump?jump=previousslide"/>
            </p:cNvPr>
            <p:cNvSpPr/>
            <p:nvPr/>
          </p:nvSpPr>
          <p:spPr>
            <a:xfrm>
              <a:off x="7920000" y="6497640"/>
              <a:ext cx="287280" cy="360360"/>
            </a:xfrm>
            <a:custGeom>
              <a:avLst/>
              <a:gdLst>
                <a:gd name="textAreaLeft" fmla="*/ 18360 w 287280"/>
                <a:gd name="textAreaRight" fmla="*/ 268920 w 287280"/>
                <a:gd name="textAreaTop" fmla="*/ 18360 h 360360"/>
                <a:gd name="textAreaBottom" fmla="*/ 342000 h 360360"/>
              </a:gdLst>
              <a:ahLst/>
              <a:rect l="textAreaLeft" t="textAreaTop" r="textAreaRight" b="textAreaBottom"/>
              <a:pathLst>
                <a:path w="21600" h="27088">
                  <a:moveTo>
                    <a:pt x="0" y="0"/>
                  </a:moveTo>
                  <a:lnTo>
                    <a:pt x="21600" y="0"/>
                  </a:lnTo>
                  <a:lnTo>
                    <a:pt x="21600" y="27088"/>
                  </a:lnTo>
                  <a:lnTo>
                    <a:pt x="0" y="27088"/>
                  </a:lnTo>
                  <a:close/>
                </a:path>
                <a:path fill="lightenLess" w="21600" h="2708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7088">
                  <a:moveTo>
                    <a:pt x="21600" y="0"/>
                  </a:moveTo>
                  <a:lnTo>
                    <a:pt x="21600" y="27088"/>
                  </a:lnTo>
                  <a:lnTo>
                    <a:pt x="20200" y="25688"/>
                  </a:lnTo>
                  <a:lnTo>
                    <a:pt x="20200" y="1400"/>
                  </a:lnTo>
                  <a:close/>
                </a:path>
                <a:path fill="darkenLess" w="21600" h="27088">
                  <a:moveTo>
                    <a:pt x="21600" y="27088"/>
                  </a:moveTo>
                  <a:lnTo>
                    <a:pt x="0" y="27088"/>
                  </a:lnTo>
                  <a:lnTo>
                    <a:pt x="1400" y="25688"/>
                  </a:lnTo>
                  <a:lnTo>
                    <a:pt x="20200" y="25688"/>
                  </a:lnTo>
                  <a:close/>
                </a:path>
                <a:path fill="lighten" w="21600" h="27088">
                  <a:moveTo>
                    <a:pt x="0" y="2708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688"/>
                  </a:lnTo>
                  <a:close/>
                </a:path>
                <a:path fill="darken" w="21600" h="27088">
                  <a:moveTo>
                    <a:pt x="3794" y="13544"/>
                  </a:moveTo>
                  <a:lnTo>
                    <a:pt x="17806" y="6537"/>
                  </a:lnTo>
                  <a:lnTo>
                    <a:pt x="17806" y="2055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4">
              <a:hlinkClick r:id="" action="ppaction://hlinkshowjump?jump=nextslide"/>
            </p:cNvPr>
            <p:cNvSpPr/>
            <p:nvPr/>
          </p:nvSpPr>
          <p:spPr>
            <a:xfrm>
              <a:off x="8207280" y="6497640"/>
              <a:ext cx="289080" cy="360360"/>
            </a:xfrm>
            <a:custGeom>
              <a:avLst/>
              <a:gdLst>
                <a:gd name="textAreaLeft" fmla="*/ 18720 w 289080"/>
                <a:gd name="textAreaRight" fmla="*/ 270360 w 289080"/>
                <a:gd name="textAreaTop" fmla="*/ 18720 h 360360"/>
                <a:gd name="textAreaBottom" fmla="*/ 341640 h 360360"/>
              </a:gdLst>
              <a:ahLst/>
              <a:rect l="textAreaLeft" t="textAreaTop" r="textAreaRight" b="textAreaBottom"/>
              <a:pathLst>
                <a:path w="21600" h="26919">
                  <a:moveTo>
                    <a:pt x="0" y="0"/>
                  </a:moveTo>
                  <a:lnTo>
                    <a:pt x="21600" y="0"/>
                  </a:lnTo>
                  <a:lnTo>
                    <a:pt x="21600" y="26919"/>
                  </a:lnTo>
                  <a:lnTo>
                    <a:pt x="0" y="26919"/>
                  </a:lnTo>
                  <a:close/>
                </a:path>
                <a:path fill="lightenLess" w="21600" h="26919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6919">
                  <a:moveTo>
                    <a:pt x="21600" y="0"/>
                  </a:moveTo>
                  <a:lnTo>
                    <a:pt x="21600" y="26919"/>
                  </a:lnTo>
                  <a:lnTo>
                    <a:pt x="20200" y="25519"/>
                  </a:lnTo>
                  <a:lnTo>
                    <a:pt x="20200" y="1400"/>
                  </a:lnTo>
                  <a:close/>
                </a:path>
                <a:path fill="darkenLess" w="21600" h="26919">
                  <a:moveTo>
                    <a:pt x="21600" y="26919"/>
                  </a:moveTo>
                  <a:lnTo>
                    <a:pt x="0" y="26919"/>
                  </a:lnTo>
                  <a:lnTo>
                    <a:pt x="1400" y="25519"/>
                  </a:lnTo>
                  <a:lnTo>
                    <a:pt x="20200" y="25519"/>
                  </a:lnTo>
                  <a:close/>
                </a:path>
                <a:path fill="lighten" w="21600" h="26919">
                  <a:moveTo>
                    <a:pt x="0" y="26919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519"/>
                  </a:lnTo>
                  <a:close/>
                </a:path>
                <a:path fill="darken" w="21600" h="26919">
                  <a:moveTo>
                    <a:pt x="3794" y="6453"/>
                  </a:moveTo>
                  <a:lnTo>
                    <a:pt x="17806" y="13460"/>
                  </a:lnTo>
                  <a:lnTo>
                    <a:pt x="3794" y="2046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5">
              <a:hlinkClick r:id="" action="ppaction://hlinkshowjump?jump=endshow"/>
            </p:cNvPr>
            <p:cNvSpPr/>
            <p:nvPr/>
          </p:nvSpPr>
          <p:spPr>
            <a:xfrm>
              <a:off x="8496360" y="6497640"/>
              <a:ext cx="647640" cy="360360"/>
            </a:xfrm>
            <a:custGeom>
              <a:avLst/>
              <a:gdLst>
                <a:gd name="textAreaLeft" fmla="*/ 23040 w 647640"/>
                <a:gd name="textAreaRight" fmla="*/ 624600 w 64764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8802" h="21600">
                  <a:moveTo>
                    <a:pt x="0" y="0"/>
                  </a:moveTo>
                  <a:lnTo>
                    <a:pt x="38802" y="0"/>
                  </a:lnTo>
                  <a:lnTo>
                    <a:pt x="38802" y="21600"/>
                  </a:lnTo>
                  <a:lnTo>
                    <a:pt x="0" y="21600"/>
                  </a:lnTo>
                  <a:close/>
                </a:path>
                <a:path fill="lightenLess" w="38802" h="21600">
                  <a:moveTo>
                    <a:pt x="0" y="0"/>
                  </a:moveTo>
                  <a:lnTo>
                    <a:pt x="38802" y="0"/>
                  </a:lnTo>
                  <a:lnTo>
                    <a:pt x="37402" y="1400"/>
                  </a:lnTo>
                  <a:lnTo>
                    <a:pt x="1400" y="1400"/>
                  </a:lnTo>
                  <a:close/>
                </a:path>
                <a:path fill="darken" w="38802" h="21600">
                  <a:moveTo>
                    <a:pt x="38802" y="0"/>
                  </a:moveTo>
                  <a:lnTo>
                    <a:pt x="38802" y="21600"/>
                  </a:lnTo>
                  <a:lnTo>
                    <a:pt x="37402" y="20200"/>
                  </a:lnTo>
                  <a:lnTo>
                    <a:pt x="37402" y="1400"/>
                  </a:lnTo>
                  <a:close/>
                </a:path>
                <a:path fill="darkenLess" w="38802" h="21600">
                  <a:moveTo>
                    <a:pt x="3880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402" y="20200"/>
                  </a:lnTo>
                  <a:close/>
                </a:path>
                <a:path fill="lighten" w="3880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6" name=""/>
          <p:cNvGraphicFramePr/>
          <p:nvPr/>
        </p:nvGraphicFramePr>
        <p:xfrm>
          <a:off x="1116000" y="4365720"/>
          <a:ext cx="3778200" cy="1063440"/>
        </p:xfrm>
        <a:graphic>
          <a:graphicData uri="http://schemas.openxmlformats.org/drawingml/2006/table">
            <a:tbl>
              <a:tblPr/>
              <a:tblGrid>
                <a:gridCol w="944640"/>
                <a:gridCol w="944640"/>
                <a:gridCol w="944280"/>
                <a:gridCol w="944640"/>
              </a:tblGrid>
              <a:tr h="28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D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ELLI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_POS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45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l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o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67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guel 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ér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5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rígu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7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227640" y="1773360"/>
          <a:ext cx="1889280" cy="1063440"/>
        </p:xfrm>
        <a:graphic>
          <a:graphicData uri="http://schemas.openxmlformats.org/drawingml/2006/table">
            <a:tbl>
              <a:tblPr/>
              <a:tblGrid>
                <a:gridCol w="944640"/>
                <a:gridCol w="944640"/>
              </a:tblGrid>
              <a:tr h="28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_POS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VI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n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órd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7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mer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468360" y="1700280"/>
          <a:ext cx="2604960" cy="1873080"/>
        </p:xfrm>
        <a:graphic>
          <a:graphicData uri="http://schemas.openxmlformats.org/drawingml/2006/table">
            <a:tbl>
              <a:tblPr/>
              <a:tblGrid>
                <a:gridCol w="944640"/>
                <a:gridCol w="944280"/>
                <a:gridCol w="716040"/>
              </a:tblGrid>
              <a:tr h="28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D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SIGN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45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45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67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67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5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5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6084720" y="3357720"/>
          <a:ext cx="2117880" cy="1873080"/>
        </p:xfrm>
        <a:graphic>
          <a:graphicData uri="http://schemas.openxmlformats.org/drawingml/2006/table">
            <a:tbl>
              <a:tblPr/>
              <a:tblGrid>
                <a:gridCol w="944640"/>
                <a:gridCol w="1173240"/>
              </a:tblGrid>
              <a:tr h="28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SIGN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E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onso Bonil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rciso Jáim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rciso Jáim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bastián Lóp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bastián Lóp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onso Bonil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10"/>
          <p:cNvSpPr/>
          <p:nvPr/>
        </p:nvSpPr>
        <p:spPr>
          <a:xfrm>
            <a:off x="2844720" y="333360"/>
            <a:ext cx="3095640" cy="45972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Están en 3FN?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1"/>
          <p:cNvSpPr/>
          <p:nvPr/>
        </p:nvSpPr>
        <p:spPr>
          <a:xfrm>
            <a:off x="3492360" y="2865600"/>
            <a:ext cx="2303640" cy="45972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í está en 3F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2"/>
          <p:cNvSpPr/>
          <p:nvPr/>
        </p:nvSpPr>
        <p:spPr>
          <a:xfrm>
            <a:off x="2411280" y="2133720"/>
            <a:ext cx="4248360" cy="155700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Existen dependencias funcionales transitivas? Si la respuesta es NO… las tablas estarán en 3FN…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3"/>
          <p:cNvSpPr/>
          <p:nvPr/>
        </p:nvSpPr>
        <p:spPr>
          <a:xfrm>
            <a:off x="2340000" y="3141720"/>
            <a:ext cx="4248000" cy="82548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das las tablas están en 3FN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4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9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4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15"/>
          <p:cNvGrpSpPr/>
          <p:nvPr/>
        </p:nvGrpSpPr>
        <p:grpSpPr>
          <a:xfrm>
            <a:off x="8209080" y="6497640"/>
            <a:ext cx="934920" cy="360360"/>
            <a:chOff x="8209080" y="6497640"/>
            <a:chExt cx="934920" cy="360360"/>
          </a:xfrm>
        </p:grpSpPr>
        <p:sp>
          <p:nvSpPr>
            <p:cNvPr id="95" name="AutoShape 3">
              <a:hlinkClick r:id="" action="ppaction://hlinkshowjump?jump=previousslide"/>
            </p:cNvPr>
            <p:cNvSpPr/>
            <p:nvPr/>
          </p:nvSpPr>
          <p:spPr>
            <a:xfrm>
              <a:off x="8209080" y="6497640"/>
              <a:ext cx="287280" cy="360360"/>
            </a:xfrm>
            <a:custGeom>
              <a:avLst/>
              <a:gdLst>
                <a:gd name="textAreaLeft" fmla="*/ 18360 w 287280"/>
                <a:gd name="textAreaRight" fmla="*/ 268920 w 287280"/>
                <a:gd name="textAreaTop" fmla="*/ 18360 h 360360"/>
                <a:gd name="textAreaBottom" fmla="*/ 342000 h 360360"/>
              </a:gdLst>
              <a:ahLst/>
              <a:rect l="textAreaLeft" t="textAreaTop" r="textAreaRight" b="textAreaBottom"/>
              <a:pathLst>
                <a:path w="21600" h="27088">
                  <a:moveTo>
                    <a:pt x="0" y="0"/>
                  </a:moveTo>
                  <a:lnTo>
                    <a:pt x="21600" y="0"/>
                  </a:lnTo>
                  <a:lnTo>
                    <a:pt x="21600" y="27088"/>
                  </a:lnTo>
                  <a:lnTo>
                    <a:pt x="0" y="27088"/>
                  </a:lnTo>
                  <a:close/>
                </a:path>
                <a:path fill="lightenLess" w="21600" h="2708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7088">
                  <a:moveTo>
                    <a:pt x="21600" y="0"/>
                  </a:moveTo>
                  <a:lnTo>
                    <a:pt x="21600" y="27088"/>
                  </a:lnTo>
                  <a:lnTo>
                    <a:pt x="20200" y="25688"/>
                  </a:lnTo>
                  <a:lnTo>
                    <a:pt x="20200" y="1400"/>
                  </a:lnTo>
                  <a:close/>
                </a:path>
                <a:path fill="darkenLess" w="21600" h="27088">
                  <a:moveTo>
                    <a:pt x="21600" y="27088"/>
                  </a:moveTo>
                  <a:lnTo>
                    <a:pt x="0" y="27088"/>
                  </a:lnTo>
                  <a:lnTo>
                    <a:pt x="1400" y="25688"/>
                  </a:lnTo>
                  <a:lnTo>
                    <a:pt x="20200" y="25688"/>
                  </a:lnTo>
                  <a:close/>
                </a:path>
                <a:path fill="lighten" w="21600" h="27088">
                  <a:moveTo>
                    <a:pt x="0" y="2708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688"/>
                  </a:lnTo>
                  <a:close/>
                </a:path>
                <a:path fill="darken" w="21600" h="27088">
                  <a:moveTo>
                    <a:pt x="3794" y="13544"/>
                  </a:moveTo>
                  <a:lnTo>
                    <a:pt x="17806" y="6537"/>
                  </a:lnTo>
                  <a:lnTo>
                    <a:pt x="17806" y="2055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5">
              <a:hlinkClick r:id="" action="ppaction://hlinkshowjump?jump=endshow"/>
            </p:cNvPr>
            <p:cNvSpPr/>
            <p:nvPr/>
          </p:nvSpPr>
          <p:spPr>
            <a:xfrm>
              <a:off x="8496360" y="6497640"/>
              <a:ext cx="647640" cy="360360"/>
            </a:xfrm>
            <a:custGeom>
              <a:avLst/>
              <a:gdLst>
                <a:gd name="textAreaLeft" fmla="*/ 23040 w 647640"/>
                <a:gd name="textAreaRight" fmla="*/ 624600 w 64764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8802" h="21600">
                  <a:moveTo>
                    <a:pt x="0" y="0"/>
                  </a:moveTo>
                  <a:lnTo>
                    <a:pt x="38802" y="0"/>
                  </a:lnTo>
                  <a:lnTo>
                    <a:pt x="38802" y="21600"/>
                  </a:lnTo>
                  <a:lnTo>
                    <a:pt x="0" y="21600"/>
                  </a:lnTo>
                  <a:close/>
                </a:path>
                <a:path fill="lightenLess" w="38802" h="21600">
                  <a:moveTo>
                    <a:pt x="0" y="0"/>
                  </a:moveTo>
                  <a:lnTo>
                    <a:pt x="38802" y="0"/>
                  </a:lnTo>
                  <a:lnTo>
                    <a:pt x="37402" y="1400"/>
                  </a:lnTo>
                  <a:lnTo>
                    <a:pt x="1400" y="1400"/>
                  </a:lnTo>
                  <a:close/>
                </a:path>
                <a:path fill="darken" w="38802" h="21600">
                  <a:moveTo>
                    <a:pt x="38802" y="0"/>
                  </a:moveTo>
                  <a:lnTo>
                    <a:pt x="38802" y="21600"/>
                  </a:lnTo>
                  <a:lnTo>
                    <a:pt x="37402" y="20200"/>
                  </a:lnTo>
                  <a:lnTo>
                    <a:pt x="37402" y="1400"/>
                  </a:lnTo>
                  <a:close/>
                </a:path>
                <a:path fill="darkenLess" w="38802" h="21600">
                  <a:moveTo>
                    <a:pt x="3880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402" y="20200"/>
                  </a:lnTo>
                  <a:close/>
                </a:path>
                <a:path fill="lighten" w="3880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7" name=""/>
          <p:cNvGraphicFramePr/>
          <p:nvPr/>
        </p:nvGraphicFramePr>
        <p:xfrm>
          <a:off x="1116000" y="4365720"/>
          <a:ext cx="3778200" cy="1063440"/>
        </p:xfrm>
        <a:graphic>
          <a:graphicData uri="http://schemas.openxmlformats.org/drawingml/2006/table">
            <a:tbl>
              <a:tblPr/>
              <a:tblGrid>
                <a:gridCol w="944640"/>
                <a:gridCol w="944640"/>
                <a:gridCol w="944280"/>
                <a:gridCol w="944640"/>
              </a:tblGrid>
              <a:tr h="28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D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ELLI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_POS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45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l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o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67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guel 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ér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5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rígu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7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227640" y="1773360"/>
          <a:ext cx="1889280" cy="1063440"/>
        </p:xfrm>
        <a:graphic>
          <a:graphicData uri="http://schemas.openxmlformats.org/drawingml/2006/table">
            <a:tbl>
              <a:tblPr/>
              <a:tblGrid>
                <a:gridCol w="944640"/>
                <a:gridCol w="944640"/>
              </a:tblGrid>
              <a:tr h="28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_POS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VI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n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órd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7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mer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68360" y="1700280"/>
          <a:ext cx="2604960" cy="1873080"/>
        </p:xfrm>
        <a:graphic>
          <a:graphicData uri="http://schemas.openxmlformats.org/drawingml/2006/table">
            <a:tbl>
              <a:tblPr/>
              <a:tblGrid>
                <a:gridCol w="944640"/>
                <a:gridCol w="944280"/>
                <a:gridCol w="716040"/>
              </a:tblGrid>
              <a:tr h="28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D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SIGN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45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45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67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67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5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5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6084720" y="3357720"/>
          <a:ext cx="2117880" cy="1873080"/>
        </p:xfrm>
        <a:graphic>
          <a:graphicData uri="http://schemas.openxmlformats.org/drawingml/2006/table">
            <a:tbl>
              <a:tblPr/>
              <a:tblGrid>
                <a:gridCol w="944640"/>
                <a:gridCol w="1173240"/>
              </a:tblGrid>
              <a:tr h="28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SIGN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E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onso Bonil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rciso Jáim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rciso Jáim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bastián Lóp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bastián Lóp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onso Bonil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01" name="Text Box 110"/>
          <p:cNvSpPr/>
          <p:nvPr/>
        </p:nvSpPr>
        <p:spPr>
          <a:xfrm>
            <a:off x="2844720" y="333360"/>
            <a:ext cx="3095640" cy="45972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Están en FNBC?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1"/>
          <p:cNvSpPr/>
          <p:nvPr/>
        </p:nvSpPr>
        <p:spPr>
          <a:xfrm>
            <a:off x="3421080" y="3068640"/>
            <a:ext cx="2303280" cy="82548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í está en FNBC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2"/>
          <p:cNvSpPr/>
          <p:nvPr/>
        </p:nvSpPr>
        <p:spPr>
          <a:xfrm>
            <a:off x="2411280" y="2133720"/>
            <a:ext cx="4248360" cy="155700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todos los determinantes de las tablas son clave principal… las tablas estarán en FNBC…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3"/>
          <p:cNvSpPr/>
          <p:nvPr/>
        </p:nvSpPr>
        <p:spPr>
          <a:xfrm>
            <a:off x="2340000" y="3141720"/>
            <a:ext cx="4248000" cy="82548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das las tablas están en FNBC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1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61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47:14Z</dcterms:created>
  <dc:creator>asesor</dc:creator>
  <dc:description/>
  <dc:language>en-US</dc:language>
  <cp:lastModifiedBy>Invitado</cp:lastModifiedBy>
  <dcterms:modified xsi:type="dcterms:W3CDTF">2014-11-14T11:29:02Z</dcterms:modified>
  <cp:revision>17</cp:revision>
  <dc:subject/>
  <dc:title>Visualización de los índices que existen sobre una tabla</dc:title>
</cp:coreProperties>
</file>